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7C5-E1D7-419D-B05E-E2C10A3E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B67-3285-49C5-9B82-283E8BCD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F28-6A5A-413A-8ABF-8E3C8F15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B04-D4A8-486E-A088-737BE691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773-9E7C-4B48-8D69-3F48DBEB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220-CFF9-45EE-9BC8-6FE00A77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9F3-1C08-4568-A0AF-4707953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898-98C8-44E4-836F-2B0CBFE7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B34-2625-4272-AFD0-8C22917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54-5F73-4C64-8EF9-585C3D2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C32-6047-4B07-B2ED-05AFB68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497-AE27-42A9-BE59-7E5DE6B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6CF-2E0C-4C59-8FBF-4D4DCE6D058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2 Examining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900000" y="2000160"/>
            <a:ext cx="71280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ocation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 Lake- St. Lawrence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lants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tario plant- trill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est Area- Firewood and maple sugar b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cco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lp themselves to farmers cr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oth victims of speeding traffic when habitat is near highways and 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limate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and d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eople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arge human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064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ocation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rctic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lants: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Very short growing 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ld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ow in a very short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rib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limate: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 cold w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eople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uman habitation is spa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uit- hunt caribou in summer and seals in the w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871200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Calibri"/>
              </a:rPr>
              <a:t>Location: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The Canadian Shie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Calibri"/>
              </a:rPr>
              <a:t>Plants: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at thrive with wet roo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ater plants- lill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ock not far beneath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ater will not soak through r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odiverse- great variety of plants and anim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limate: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rm and 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os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d eag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a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10:58Z</dcterms:created>
  <dc:creator>Jason</dc:creator>
  <dc:description/>
  <dc:language>en-US</dc:language>
  <cp:lastModifiedBy>Jason</cp:lastModifiedBy>
  <dcterms:modified xsi:type="dcterms:W3CDTF">2010-10-20T12:07:23Z</dcterms:modified>
  <cp:revision>6</cp:revision>
  <dc:subject/>
  <dc:title>3.2 Examining Bioregions</dc:title>
</cp:coreProperties>
</file>